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A42F-66E6-4192-A530-5BBC687F1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D760-270A-4E8A-B49D-7E7487F6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361B-9D76-44A4-AF98-9C65C3471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DC21-B449-4B4D-BB57-42A4BB9AA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9123-A3FB-4861-A718-1807C1D1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0DA6-FD8E-4168-8FC1-42CB6AEF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8FD1-6E06-438B-9094-43FB3C2E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2EB7-72FE-4786-B5A8-167C737F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8058-DC09-403F-859C-FF641108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A5DA-D28D-4AA8-B5D2-022B5172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E6CA-4853-49E5-8855-B8D323FF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143C-A1C4-4CAF-804A-509545BC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B000-3548-467F-AD75-93D9EB672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94 V práci aj pri odp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nku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práci aj pri odpočink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án je mojou piesňou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dvtedy, čo jeho lásk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aždodenne poznáv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desí ma starosť, ties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arcu spásy velebím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ch znie vrúcnej vďak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ies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láva Bohu na nebi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S úctou anjeli ho chváli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všetkej chvály hoden 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na zemi ho vďačne slávi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láskou srdcia zmierené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desí ma starosť, ties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arcu spásy velebím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ch znie vrúcnej vďak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ies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láva Bohu na nebi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ožiu milosť velebiť smi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už tu, v hriešnej časn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ráľa slávy s anjelmi chc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chvál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aj vo 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osti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desí ma starosť, ties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arcu spásy velebím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ch znie vrúcnej vďak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ies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láva Bohu na nebi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8:54:36Z</dcterms:modified>
  <cp:revision>22</cp:revision>
  <dc:subject/>
  <dc:title>Je veľký náš Pán, on slávy je Kráľ Nech do všetkých strán  spev vrúcnych znie chvál.</dc:title>
</cp:coreProperties>
</file>